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343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343080" indent="-34308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343080" indent="-34308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0800" y="6566040"/>
            <a:ext cx="230724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2008 by 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119840" y="6567480"/>
            <a:ext cx="1154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September 2008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6215040" y="6564240"/>
            <a:ext cx="292896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Executive Strategy Seminar - Module 1 - </a:t>
            </a:r>
            <a:fld id="{7968CD95-97C2-4FF9-A428-CF5A18E32BF6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7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6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1058760" y="4967280"/>
            <a:ext cx="7313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08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4118400" y="6567480"/>
            <a:ext cx="1154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September 2008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9388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8" name="Picture 8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9"/>
          <p:cNvSpPr/>
          <p:nvPr/>
        </p:nvSpPr>
        <p:spPr>
          <a:xfrm>
            <a:off x="6215040" y="6564240"/>
            <a:ext cx="292896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Executive Strategy Seminar - Module 1 - </a:t>
            </a:r>
            <a:fld id="{2D94CBF0-2584-4496-BAAA-7E2F68BD72DF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343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343080" indent="-34308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343080" indent="-34308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1028880" y="2050920"/>
            <a:ext cx="29145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966960" y="1893960"/>
            <a:ext cx="7751520" cy="16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200" spc="-1" strike="noStrike">
                <a:solidFill>
                  <a:srgbClr val="39536b"/>
                </a:solidFill>
                <a:latin typeface="Arial Narrow"/>
              </a:rPr>
              <a:t>TSP Executive Strategy Seminar</a:t>
            </a: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4500" spc="-1" strike="noStrike">
                <a:solidFill>
                  <a:srgbClr val="39536b"/>
                </a:solidFill>
                <a:latin typeface="Arial Narrow"/>
              </a:rPr>
              <a:t>Exercise 3: Schedule Management</a:t>
            </a:r>
            <a:endParaRPr b="0" lang="en-US" sz="45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 Discussion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17720" y="1707840"/>
            <a:ext cx="741024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ther ques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accurate is the plan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would it cost (or save) the business to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dd one developer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crease team task hours by 5 hours per wee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management actions would increase (or decrease) the team’s weekly task hours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events might cause the weeks-to-go estimates to be in error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2904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000" spc="-1" strike="noStrike">
              <a:solidFill>
                <a:srgbClr val="39536b"/>
              </a:solidFill>
              <a:latin typeface="Arial"/>
              <a:ea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             </a:t>
            </a:r>
            <a:br>
              <a:rPr sz="1800"/>
            </a:b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95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 Objectiv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17720" y="1707840"/>
            <a:ext cx="741024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objective of this exercise is to illustrate how TSP data can be used to manage project schedul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exercise describes how to 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termine project statu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imate when the project will finish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dentify the reasons for potential schedule proble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 Overview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17720" y="1707840"/>
            <a:ext cx="741024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exercise uses data on one TSP tea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isa’s 5-member team has completed 13 weeks of its 36 week schedul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developers have completed the product’s high-level design and are about to start on detailed desig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Data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17720" y="1707840"/>
            <a:ext cx="741024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exercise uses data from the TSP WEEK for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reports these data every wee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WEEK Form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4" name="Text Box 1027"/>
          <p:cNvSpPr/>
          <p:nvPr/>
        </p:nvSpPr>
        <p:spPr>
          <a:xfrm>
            <a:off x="1028880" y="2220840"/>
            <a:ext cx="2095200" cy="3466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Bodoni Bd BT"/>
              </a:rPr>
              <a:t>Weeks worked    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5" name="Text Box 1028"/>
          <p:cNvSpPr/>
          <p:nvPr/>
        </p:nvSpPr>
        <p:spPr>
          <a:xfrm>
            <a:off x="6770520" y="598320"/>
            <a:ext cx="1640160" cy="59004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Bodoni Bd BT"/>
              </a:rPr>
              <a:t>Data used in 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Bodoni Bd BT"/>
              </a:rPr>
              <a:t>the exercise 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06" name="Picture 1029" descr=""/>
          <p:cNvPicPr/>
          <p:nvPr/>
        </p:nvPicPr>
        <p:blipFill>
          <a:blip r:embed="rId1"/>
          <a:stretch/>
        </p:blipFill>
        <p:spPr>
          <a:xfrm>
            <a:off x="4113360" y="1879560"/>
            <a:ext cx="4329000" cy="404964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1030"/>
          <p:cNvSpPr/>
          <p:nvPr/>
        </p:nvSpPr>
        <p:spPr>
          <a:xfrm>
            <a:off x="3343320" y="2306520"/>
            <a:ext cx="1369800" cy="171720"/>
          </a:xfrm>
          <a:prstGeom prst="rightArrow">
            <a:avLst>
              <a:gd name="adj1" fmla="val 50000"/>
              <a:gd name="adj2" fmla="val 199423"/>
            </a:avLst>
          </a:prstGeom>
          <a:solidFill>
            <a:srgbClr val="87abb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240" bIns="3924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8" name="Oval 1031"/>
          <p:cNvSpPr/>
          <p:nvPr/>
        </p:nvSpPr>
        <p:spPr>
          <a:xfrm>
            <a:off x="4884840" y="2220840"/>
            <a:ext cx="685800" cy="343080"/>
          </a:xfrm>
          <a:prstGeom prst="ellipse">
            <a:avLst/>
          </a:prstGeom>
          <a:noFill/>
          <a:ln w="2844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9" name="Oval 1032"/>
          <p:cNvSpPr/>
          <p:nvPr/>
        </p:nvSpPr>
        <p:spPr>
          <a:xfrm>
            <a:off x="6770520" y="2478240"/>
            <a:ext cx="1714680" cy="682560"/>
          </a:xfrm>
          <a:prstGeom prst="ellipse">
            <a:avLst/>
          </a:prstGeom>
          <a:noFill/>
          <a:ln w="2844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0" name="Text Box 1033"/>
          <p:cNvSpPr/>
          <p:nvPr/>
        </p:nvSpPr>
        <p:spPr>
          <a:xfrm>
            <a:off x="1028880" y="3417840"/>
            <a:ext cx="2095200" cy="2050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900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Bodoni Bd BT"/>
              </a:rPr>
              <a:t>Plan and actual hours worked    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Bodoni Bd BT"/>
              </a:rPr>
              <a:t>Plan and actual EV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Bodoni Bd BT"/>
              </a:rPr>
              <a:t>Plan and actual hours for completed task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1" name="AutoShape 1034"/>
          <p:cNvSpPr/>
          <p:nvPr/>
        </p:nvSpPr>
        <p:spPr>
          <a:xfrm rot="20995800">
            <a:off x="3257640" y="3246480"/>
            <a:ext cx="3427200" cy="171360"/>
          </a:xfrm>
          <a:prstGeom prst="rightArrow">
            <a:avLst>
              <a:gd name="adj1" fmla="val 50000"/>
              <a:gd name="adj2" fmla="val 500000"/>
            </a:avLst>
          </a:prstGeom>
          <a:solidFill>
            <a:srgbClr val="87abb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roject Assessment Step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17720" y="1707840"/>
            <a:ext cx="741024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hree principal steps in assessing project status are as follow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termine the rate at which the team has completed its work so far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suming that the team continues at this rate, estimate when the project will finish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termine the consequences of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dding a developer to the tea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elping the team increase its weekly task hou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exercise illustrates the use of TSP data to identify and address schedule problem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Exercise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17720" y="1707840"/>
            <a:ext cx="741024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ad the exercise instructio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m into groups of two to four to answer the questio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done, we will discuss the questions as a group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grpSp>
        <p:nvGrpSpPr>
          <p:cNvPr id="116" name="Group 4"/>
          <p:cNvGrpSpPr/>
          <p:nvPr/>
        </p:nvGrpSpPr>
        <p:grpSpPr>
          <a:xfrm>
            <a:off x="3376440" y="5025960"/>
            <a:ext cx="2363400" cy="879480"/>
            <a:chOff x="3376440" y="5025960"/>
            <a:chExt cx="2363400" cy="879480"/>
          </a:xfrm>
        </p:grpSpPr>
        <p:sp>
          <p:nvSpPr>
            <p:cNvPr id="117" name="Rectangle 5"/>
            <p:cNvSpPr/>
            <p:nvPr/>
          </p:nvSpPr>
          <p:spPr>
            <a:xfrm>
              <a:off x="3852000" y="5338800"/>
              <a:ext cx="188784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760" rIns="104760" tIns="52560" bIns="52560" anchor="t">
              <a:spAutoFit/>
            </a:bodyPr>
            <a:p>
              <a:pPr>
                <a:lnSpc>
                  <a:spcPct val="90000"/>
                </a:lnSpc>
                <a:spcBef>
                  <a:spcPts val="901"/>
                </a:spcBef>
                <a:buClr>
                  <a:srgbClr val="39536b"/>
                </a:buClr>
                <a:buFont typeface="Arial"/>
                <a:buChar char=" "/>
                <a:tabLst>
                  <a:tab algn="l" pos="1033560"/>
                  <a:tab algn="l" pos="2066760"/>
                  <a:tab algn="l" pos="3100320"/>
                  <a:tab algn="l" pos="4133880"/>
                  <a:tab algn="l" pos="5167440"/>
                  <a:tab algn="l" pos="6200640"/>
                  <a:tab algn="l" pos="7234200"/>
                  <a:tab algn="l" pos="8267760"/>
                  <a:tab algn="l" pos="9301320"/>
                  <a:tab algn="l" pos="10334520"/>
                </a:tabLst>
              </a:pPr>
              <a:r>
                <a:rPr b="1" lang="en-US" sz="2400" spc="-1" strike="noStrike">
                  <a:solidFill>
                    <a:srgbClr val="39536b"/>
                  </a:solidFill>
                  <a:latin typeface="Arial"/>
                </a:rPr>
                <a:t>20 minutes</a:t>
              </a:r>
              <a:endParaRPr b="0" lang="en-US" sz="2400" spc="-1" strike="noStrike">
                <a:solidFill>
                  <a:srgbClr val="39536b"/>
                </a:solidFill>
                <a:latin typeface="Arial"/>
              </a:endParaRPr>
            </a:p>
          </p:txBody>
        </p:sp>
        <p:pic>
          <p:nvPicPr>
            <p:cNvPr id="118" name="Picture 6" descr=""/>
            <p:cNvPicPr/>
            <p:nvPr/>
          </p:nvPicPr>
          <p:blipFill>
            <a:blip r:embed="rId1"/>
            <a:stretch/>
          </p:blipFill>
          <p:spPr>
            <a:xfrm>
              <a:off x="3376440" y="5025960"/>
              <a:ext cx="649440" cy="87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 Discussion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17720" y="1707840"/>
            <a:ext cx="741024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chedule ques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re does the project stand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y is it ahead or behind schedule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lan performance ques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much schedule would adding one developer save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much schedule would a 5-hour increase in weekly team task hours save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14:57:17Z</dcterms:created>
  <dc:creator>Daniel Burton</dc:creator>
  <dc:description/>
  <cp:keywords/>
  <dc:language>en-US</dc:language>
  <cp:lastModifiedBy>wrn_loc_adm</cp:lastModifiedBy>
  <cp:lastPrinted>2001-07-23T13:49:01Z</cp:lastPrinted>
  <dcterms:modified xsi:type="dcterms:W3CDTF">2018-09-06T00:17:49Z</dcterms:modified>
  <cp:revision>14</cp:revision>
  <dc:subject>24 July 2001 / 3:30pm</dc:subject>
  <dc:title>PowerPoint Presentation</dc:title>
</cp:coreProperties>
</file>